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9BA-9C11-4603-A2CA-C4068D52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48F-EF95-451C-8472-A1C557BB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893-2010-427B-90CF-E5D4431D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D8E-BAC2-4044-9976-65E17EF0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D42-C995-4305-B60A-395B8669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B2C-9C36-48E8-A0BC-2F2E9204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245-029B-4346-9F4A-26F4F74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BDC-B740-403D-8A33-9B7B5EC9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097-878D-4752-A256-34504F6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952-90A3-4FDB-9063-4C16DF6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3C4-C86F-498B-9DE5-AE1F427F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3E5-8823-4962-ACE2-5EFE0CC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D11D-E70E-49D5-BC9F-E3F8F4CEF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ristmas Action Car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fighting a burg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E:\cliparts\H to I\Clip Art\Holidays\Christmas\Santa &amp; Reindeer (Sa - Sa)\Santa &amp; Burglar.wmf"/>
          <p:cNvPicPr/>
          <p:nvPr/>
        </p:nvPicPr>
        <p:blipFill>
          <a:blip r:embed="rId1"/>
          <a:stretch/>
        </p:blipFill>
        <p:spPr>
          <a:xfrm>
            <a:off x="2286000" y="228600"/>
            <a:ext cx="4114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ping pong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" descr="E:\cliparts\H to I\Clip Art\Holidays\Christmas\Santa &amp; Reindeer (A - R)\Playing Ping Pong.wmf"/>
          <p:cNvPicPr/>
          <p:nvPr/>
        </p:nvPicPr>
        <p:blipFill>
          <a:blip r:embed="rId1"/>
          <a:stretch/>
        </p:blipFill>
        <p:spPr>
          <a:xfrm>
            <a:off x="1752480" y="533520"/>
            <a:ext cx="59436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check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1" descr="E:\cliparts\H to I\Clip Art\Holidays\Christmas\Santa &amp; Reindeer (A - R)\Playing Checkers.wmf"/>
          <p:cNvPicPr/>
          <p:nvPr/>
        </p:nvPicPr>
        <p:blipFill>
          <a:blip r:embed="rId1"/>
          <a:stretch/>
        </p:blipFill>
        <p:spPr>
          <a:xfrm>
            <a:off x="2133720" y="380880"/>
            <a:ext cx="536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the guit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E:\cliparts\H to I\Clip Art\Holidays\Christmas\Santa &amp; Reindeer (A - R)\Rock 'N Roll - Santa.wmf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golf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E:\cliparts\H to I\Clip Art\Holidays\Christmas\Santa &amp; Reindeer (Sa - Z)\Santa Golfing 1.wmf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inging a so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E:\cliparts\H to I\Clip Art\Holidays\Christmas\General (A - Ca)\Candle - Singing.wmf"/>
          <p:cNvPicPr/>
          <p:nvPr/>
        </p:nvPicPr>
        <p:blipFill>
          <a:blip r:embed="rId1"/>
          <a:stretch/>
        </p:blipFill>
        <p:spPr>
          <a:xfrm>
            <a:off x="2743200" y="380880"/>
            <a:ext cx="286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corating a tre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cliparts\H to I\Clip Art\Holidays\Christmas\Trees &amp; Ornaments\Tree 75.wmf"/>
          <p:cNvPicPr/>
          <p:nvPr/>
        </p:nvPicPr>
        <p:blipFill>
          <a:blip r:embed="rId1"/>
          <a:stretch/>
        </p:blipFill>
        <p:spPr>
          <a:xfrm>
            <a:off x="2362320" y="304920"/>
            <a:ext cx="39621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inging caro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E:\cliparts\H to I\Clip Art\Holidays\Christmas\General (A - Ca)\Carolers 3.wmf"/>
          <p:cNvPicPr/>
          <p:nvPr/>
        </p:nvPicPr>
        <p:blipFill>
          <a:blip r:embed="rId1"/>
          <a:stretch/>
        </p:blipFill>
        <p:spPr>
          <a:xfrm>
            <a:off x="1523880" y="393840"/>
            <a:ext cx="57150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ading a lett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E:\cliparts\H to I\Clip Art\Holidays\Christmas\Santa &amp; Reindeer (Sa - Sa)\Santa &amp; List 2.wmf"/>
          <p:cNvPicPr/>
          <p:nvPr/>
        </p:nvPicPr>
        <p:blipFill>
          <a:blip r:embed="rId1"/>
          <a:stretch/>
        </p:blipFill>
        <p:spPr>
          <a:xfrm>
            <a:off x="1295280" y="609480"/>
            <a:ext cx="58676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basketb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E:\cliparts\H to I\Clip Art\Holidays\Christmas\Santa &amp; Reindeer (Sa - Z)\Santa Playing Basketball.wmf"/>
          <p:cNvPicPr/>
          <p:nvPr/>
        </p:nvPicPr>
        <p:blipFill>
          <a:blip r:embed="rId1"/>
          <a:stretch/>
        </p:blipFill>
        <p:spPr>
          <a:xfrm>
            <a:off x="2438280" y="685800"/>
            <a:ext cx="434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aking a snowpers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E:\cliparts\H to I\Clip Art\Holidays\Christmas\Santa &amp; Reindeer (Sa - Sa)\Santa &amp; Snowman.wmf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arrying a bo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E:\cliparts\H to I\Clip Art\Holidays\Christmas\Santa &amp; Reindeer (Sa - Sa)\Santa &amp; Child 1.wmf"/>
          <p:cNvPicPr/>
          <p:nvPr/>
        </p:nvPicPr>
        <p:blipFill>
          <a:blip r:embed="rId1"/>
          <a:stretch/>
        </p:blipFill>
        <p:spPr>
          <a:xfrm>
            <a:off x="2286000" y="533520"/>
            <a:ext cx="4443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alking to a bo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cliparts\H to I\Clip Art\Holidays\Christmas\Santa &amp; Reindeer (Sa - Sa)\Santa &amp; Boy.wmf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3:51:02Z</dcterms:created>
  <dc:creator>kisito</dc:creator>
  <dc:description/>
  <dc:language>en-US</dc:language>
  <cp:lastModifiedBy> </cp:lastModifiedBy>
  <dcterms:modified xsi:type="dcterms:W3CDTF">2009-02-18T10:12:07Z</dcterms:modified>
  <cp:revision>17</cp:revision>
  <dc:subject/>
  <dc:title>Christmas Action Cards</dc:title>
</cp:coreProperties>
</file>